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9F5F-EED5-435F-9A22-A6A2913A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E61C-5FD0-4B75-8A47-C1058E5F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96D9-9A30-444E-AA7B-5B683023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9468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22320" y="22093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6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9468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22320" y="408024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9BA-B6A7-42C7-B629-7F218926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D354-9A39-4A09-B911-6C4668B4F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370-B2F5-4F14-9F44-28F182A1C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4A92-3204-4074-8162-C1D10F88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4656-0908-4AC2-9FDC-8CE177D9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93A5-2FE8-4CB7-8DA0-139B44FA2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FEAF-D657-4EE4-BC2D-0F23DE90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9360" y="408024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9194-001C-4D7A-A449-7D01CA42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9360" y="22093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802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473A-7CDA-4E8B-B0DA-02275369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22093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8954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04D1-0C98-41B8-8FD1-A9D7DD1D7A30}" type="slidenum">
              <a:rPr b="0" lang="zh-TW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295280" y="914400"/>
            <a:ext cx="6629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019920"/>
            <a:ext cx="8305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705000" y="6095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000" spc="-1" strike="noStrike">
                <a:solidFill>
                  <a:srgbClr val="3399ff"/>
                </a:solidFill>
                <a:latin typeface="華康粗黑體"/>
                <a:ea typeface="華康粗黑體"/>
              </a:rPr>
              <a:t>工業技術研究院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91760" y="6248520"/>
            <a:ext cx="793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00" spc="-1" strike="noStrike">
                <a:solidFill>
                  <a:srgbClr val="3399ff"/>
                </a:solidFill>
                <a:latin typeface="華康中黑體"/>
                <a:ea typeface="華康中黑體"/>
              </a:rPr>
              <a:t>環境與安全衛生技術發展中心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580800" y="6370560"/>
            <a:ext cx="2075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99ff"/>
                </a:solidFill>
                <a:latin typeface="Bookman Old Style"/>
              </a:rPr>
              <a:t>Industrial Technology Research Institute</a:t>
            </a: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527880" y="6508800"/>
            <a:ext cx="2311200" cy="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3399ff"/>
                </a:solidFill>
                <a:latin typeface="Times New Roman"/>
              </a:rPr>
              <a:t>Center for Environmental Safety &amp; Health Technology Development</a:t>
            </a: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1" name=""/>
          <p:cNvGraphicFramePr/>
          <p:nvPr/>
        </p:nvGraphicFramePr>
        <p:xfrm>
          <a:off x="6019920" y="6095880"/>
          <a:ext cx="476280" cy="447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019920" y="6095880"/>
                    <a:ext cx="47628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23960" y="2286000"/>
            <a:ext cx="769608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cab40"/>
                </a:solidFill>
                <a:latin typeface="Arial Narrow"/>
                <a:ea typeface="華康粗圓體"/>
              </a:rPr>
              <a:t>北區毒災應變諮詢中心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cab40"/>
                </a:solidFill>
                <a:latin typeface="Arial Narrow"/>
                <a:ea typeface="華康粗圓體"/>
              </a:rPr>
              <a:t>工研院 陳范倫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粗圓體"/>
              </a:rPr>
              <a:t>VAN@ITRI.ORG.TW</a:t>
            </a:r>
            <a:r>
              <a:rPr b="1" lang="zh-TW" sz="3600" spc="-1" strike="noStrike">
                <a:solidFill>
                  <a:srgbClr val="fcab40"/>
                </a:solidFill>
                <a:latin typeface="Arial Narrow"/>
                <a:ea typeface="華康粗圓體"/>
              </a:rPr>
              <a:t> 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cab40"/>
                </a:solidFill>
                <a:latin typeface="Arial Narrow"/>
                <a:ea typeface="華康粗圓體"/>
              </a:rPr>
              <a:t>中華民國 九十一 年 十一 月 二十二 日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907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Arial Narrow"/>
                <a:ea typeface="華康粗圓體"/>
              </a:rPr>
              <a:t>九十一年度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Arial Narrow"/>
                <a:ea typeface="華康粗圓體"/>
              </a:rPr>
              <a:t>緊急諮詢案例分析研討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0"/>
            <a:ext cx="495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66"/>
                </a:solidFill>
                <a:latin typeface="Arial"/>
                <a:ea typeface="華康粗圓體"/>
              </a:rPr>
              <a:t>行政院環境保護署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908000" y="115920"/>
            <a:ext cx="857520" cy="75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1844-88E4-4DBD-A268-64E6FF53E0B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統友公司鐵桶膨脹事故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917640"/>
            <a:ext cx="8001000" cy="50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2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 上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09: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台北縣新莊市三和路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8-9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號統友公司倉庫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脂肪族聚異氰酸化合物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Aliphatic polyisocyanate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1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2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上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9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時，北區毒災應變諮詢中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接獲拜耳公司邱經理通報，該公司所供應化學品下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細圓體"/>
              </a:rPr>
              <a:t>倉儲業者倉庫內，發現一鐵桶膨脹變型，經確認該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細圓體"/>
              </a:rPr>
              <a:t>非列管毒性化學物質，由消防同仁四位著</a:t>
            </a: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細圓體"/>
              </a:rPr>
              <a:t>A</a:t>
            </a:r>
            <a:r>
              <a:rPr b="1" lang="zh-TW" sz="2400" spc="-1" strike="noStrike">
                <a:solidFill>
                  <a:srgbClr val="fcab40"/>
                </a:solidFill>
                <a:latin typeface="Arial Narrow"/>
                <a:ea typeface="華康細圓體"/>
              </a:rPr>
              <a:t>級防護衣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，攜帶工具進行鐵桶洩壓工作，事故於上午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11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時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25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解除，隨後進行災因調查、檢討與殘留物質清理工作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F43-B63B-4FA4-BEB8-B4BE396F6D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09480" y="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毒  災  特  性</a:t>
            </a:r>
            <a:r>
              <a:rPr b="0" lang="zh-TW" sz="4400" spc="-1" strike="noStrike">
                <a:solidFill>
                  <a:srgbClr val="eaeaea"/>
                </a:solidFill>
                <a:latin typeface="華康粗圓體"/>
                <a:ea typeface="華康粗圓體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1066680"/>
            <a:ext cx="8001000" cy="56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可能伴隨重大火災及爆炸災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可能有大量傷患就醫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要大範圍封鎖與管制及疏散民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可能需要成立災民收容中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要確認濃度範圍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偵測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可能伴隨大量污染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空氣、水、土壤、人員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民眾會特別焦慮，需要長時間追蹤輔導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事後的廢棄物清除處理困難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後續社會成本影響大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C20-F5E2-4ACA-A441-DD5FF1BF31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66680" y="1143000"/>
            <a:ext cx="2895840" cy="1981080"/>
          </a:xfrm>
          <a:prstGeom prst="ellipse">
            <a:avLst/>
          </a:prstGeom>
          <a:noFill/>
          <a:ln w="73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預防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(Prevention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1143000"/>
            <a:ext cx="2895480" cy="1981080"/>
          </a:xfrm>
          <a:prstGeom prst="ellipse">
            <a:avLst/>
          </a:prstGeom>
          <a:noFill/>
          <a:ln w="73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整備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(Preparation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3809880"/>
            <a:ext cx="2895480" cy="1981440"/>
          </a:xfrm>
          <a:prstGeom prst="ellipse">
            <a:avLst/>
          </a:prstGeom>
          <a:noFill/>
          <a:ln w="73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應變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(Response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3733920"/>
            <a:ext cx="2895840" cy="1981080"/>
          </a:xfrm>
          <a:prstGeom prst="ellipse">
            <a:avLst/>
          </a:prstGeom>
          <a:noFill/>
          <a:ln w="73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復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(Recovery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2209680"/>
            <a:ext cx="914400" cy="0"/>
          </a:xfrm>
          <a:prstGeom prst="line">
            <a:avLst/>
          </a:prstGeom>
          <a:ln w="76320">
            <a:solidFill>
              <a:srgbClr val="eaeae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05720" y="3200400"/>
            <a:ext cx="0" cy="533520"/>
          </a:xfrm>
          <a:prstGeom prst="line">
            <a:avLst/>
          </a:prstGeom>
          <a:ln w="76320">
            <a:solidFill>
              <a:srgbClr val="eaeae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800" y="4800600"/>
            <a:ext cx="990720" cy="0"/>
          </a:xfrm>
          <a:prstGeom prst="line">
            <a:avLst/>
          </a:prstGeom>
          <a:ln w="76320">
            <a:solidFill>
              <a:srgbClr val="eaeae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438280" y="3200400"/>
            <a:ext cx="0" cy="457200"/>
          </a:xfrm>
          <a:prstGeom prst="line">
            <a:avLst/>
          </a:prstGeom>
          <a:ln w="76320">
            <a:solidFill>
              <a:srgbClr val="eaeaea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5583-9524-4F9C-9FF1-D7EBA8C61C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09480" y="220968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eaeaea"/>
                </a:solidFill>
                <a:latin typeface="Times New Roman"/>
                <a:ea typeface="華康粗圓體"/>
              </a:rPr>
              <a:t>毒災演練規劃重點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49B1-3337-441B-8884-8EC1404C4E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Times New Roman"/>
                <a:ea typeface="華康粗圓體"/>
              </a:rPr>
              <a:t>需先規劃演練計畫書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066680"/>
            <a:ext cx="8001000" cy="56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練依據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災害防救法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練目的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熟悉跨縣市支援的角色與能量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練方式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高司作業、實際演練、裝備展示宣導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練地點與籌備時間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儘量腹地廣大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指導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中央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、主辦、協辦、承辦單位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事故縣市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參演單位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跨縣市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習狀況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複合型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演習項目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提升至中央層級災害規模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配合事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11F-E58C-45BE-A40E-0A4428F022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914400" y="1066680"/>
            <a:ext cx="8001000" cy="49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事故災害規模超過縣市應變能力範圍，需要其他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 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縣市支援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腳本規劃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要特殊的搶救器材或應變裝備不足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最好演出的是複合型災害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火災、毒災洩漏、大量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 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傷患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.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對外求援通報的機制要突顯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要中央協調，需成立中央災害應變中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突顯整合後的應變指揮系統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現場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ER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ffff66"/>
              </a:buClr>
              <a:buFont typeface="華康粗圓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需成立明顯的資源器材集結區</a:t>
            </a:r>
            <a:r>
              <a:rPr b="1" lang="zh-TW" sz="2800" spc="-1" strike="noStrike">
                <a:solidFill>
                  <a:srgbClr val="ffff66"/>
                </a:solidFill>
                <a:latin typeface="華康粗圓體"/>
                <a:ea typeface="華康粗圓體"/>
              </a:rPr>
              <a:t>(Staging Are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520" y="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66"/>
                </a:solidFill>
                <a:latin typeface="Times New Roman"/>
                <a:ea typeface="華康粗圓體"/>
              </a:rPr>
              <a:t>跨縣市毒災演練特色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828-B087-4BC9-A30E-286046CBA3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一：事故發生通報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990720"/>
            <a:ext cx="7848720" cy="56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事故發現人、 受傷人員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HO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事故發生地點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HER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事故發生時間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HEN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何種危害物、 情況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-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洩漏、 火災、 爆炸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HAT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天氣情況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eath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目前初步處理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HOW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建立通報與廣播詞範例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毒災發生時需於一小時內通知環保單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C169-BEC9-477C-AABA-C62240D25B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19000" y="0"/>
            <a:ext cx="750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二：應變小組與應變中心成立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990720"/>
            <a:ext cx="784872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小組的集結與清點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小組的指揮官與權責分工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0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Accountability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應變指揮中心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ERC)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的位置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應變指揮中心的軟、硬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考量風向的因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有時為了掌握災情，需成立前進指揮中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 </a:t>
            </a:r>
            <a:r>
              <a:rPr b="0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Staging Are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A619-BFAD-4ABE-932B-A0551CBDFE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三：危害確認及災情評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990720"/>
            <a:ext cx="7848720" cy="56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初期隔離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Isolate) 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禁止進入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Deny Entry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必要時進行疏散民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利用望遠鏡、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CCTV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G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危害標示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九大類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物質安全資料表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MSD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緊急應變程序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SOP)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或其他應變書籍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廠區平面圖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Layout) 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P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＆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ID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圖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鄰近地區圖及人口分佈資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msds61" descr=""/>
          <p:cNvPicPr/>
          <p:nvPr/>
        </p:nvPicPr>
        <p:blipFill>
          <a:blip r:embed="rId2"/>
          <a:stretch/>
        </p:blipFill>
        <p:spPr>
          <a:xfrm>
            <a:off x="6324480" y="167652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6389-6E9F-4394-A68E-C3FA51C289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1066680"/>
            <a:ext cx="7696080" cy="35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指認：指認可能的危害源及危害物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Identif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估量：估量結果提供做決策及制定行動計畫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事實：時間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位置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天氣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緊急事故特性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人員傷亡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曝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可能性：生命危害性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災變速率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擴散區域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火災爆炸可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               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破壞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天氣的變化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可能救援的財產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狀況：考量事故過去、現在、未來狀況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預測能力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；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           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人力、生產設備及週邊器材用具等狀況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資源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53920" y="0"/>
            <a:ext cx="743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SIZE-UP(</a:t>
            </a:r>
            <a:r>
              <a:rPr b="1" lang="zh-TW" sz="4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災情評估</a:t>
            </a:r>
            <a:r>
              <a:rPr b="1" lang="zh-TW" sz="4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3FF0-BACF-40FC-8BC6-FF7366FEF4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imes New Roman"/>
                <a:ea typeface="華康細圓體"/>
              </a:rPr>
              <a:t>湖口工業區友發化工意外事故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836640"/>
            <a:ext cx="7993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6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2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時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2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事故地點：新竹縣湖口工業區友發化工廠儲槽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黃磷水溶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大年初五剛開工，新竹縣湖口工業區友發化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工廠在進行開工程序檢查時，發現黃磷溶液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儲存槽的輸送管接縫處有外洩情況，漏出的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黃磷產生大量的濃煙與嗆鼻的刺激味，外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量約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100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公斤左右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9570-25CB-438C-994F-90DE299C3F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四：區域管制與登錄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143000"/>
            <a:ext cx="7772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警戒區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Hot Zone)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1.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在可偵測的環境下，以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1/2IDLH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偵測值劃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2.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若無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IDLH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，可以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10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倍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TWA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之偵測值劃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3.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若無法偵測，可參考緊急應變指南疏散建議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除污區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Warm Zone)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：以合適架設除污走道及水源處劃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安全區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Cold Zone) 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：前進指揮所、媒體管制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進出管制路線的控制與登錄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Rehab Area(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復原區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EA7-C224-499E-817A-C78F18EBF8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STRATEGY AND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TACTICS(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戰略及戰術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OFFENSIVE(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攻擊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DEFENSIVE(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防守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急救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First Aid)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個人防護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PPE) 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滅火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Fire) 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止漏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Spill) 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搜救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Rescue)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決定行動的優先順序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priority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DSC00005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3352680" cy="2514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五：初期行動方案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A902-4467-4F4A-ADFE-F804A6BC703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DECISION TREE(</a:t>
            </a:r>
            <a:r>
              <a:rPr b="1" lang="zh-TW" sz="44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決策樹</a:t>
            </a:r>
            <a:r>
              <a:rPr b="1" lang="zh-TW" sz="44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81720" y="1484280"/>
            <a:ext cx="26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SIZE-UP OF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INCIDENT FACTO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362320"/>
            <a:ext cx="0" cy="761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81360" y="323676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REEVALU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3733920"/>
            <a:ext cx="0" cy="7617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59120" y="4532400"/>
            <a:ext cx="281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DOES INCID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CHANGE FAVORAB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5120" y="1442880"/>
            <a:ext cx="277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MAKE DECISIONS 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ACTIONS/STRATEG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2362320"/>
            <a:ext cx="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91440" y="3043080"/>
            <a:ext cx="23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SPECIFIC GO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AND OBJECTIV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34320" y="3886200"/>
            <a:ext cx="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54080" y="453240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IMPLEMENT TH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TACTICAL OPER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19720" y="4876920"/>
            <a:ext cx="914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371600"/>
            <a:ext cx="35812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A52B-F958-4D31-A72E-D4C07CB361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95280" y="1066680"/>
            <a:ext cx="739152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1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R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escue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救援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疏散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2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E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xposure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防止曝露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3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C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ontainment/   Confinement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圍堵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4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E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xtinguish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撲滅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/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排除危害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5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V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entilation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排氣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6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O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verhaul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檢修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  </a:t>
            </a:r>
            <a:r>
              <a:rPr b="1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7.</a:t>
            </a:r>
            <a:r>
              <a:rPr b="1" lang="zh-TW" sz="3600" spc="-1" strike="noStrike">
                <a:solidFill>
                  <a:srgbClr val="ff0000"/>
                </a:solidFill>
                <a:latin typeface="Arial Narrow"/>
                <a:ea typeface="華康粗圓體"/>
              </a:rPr>
              <a:t>R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ecovery (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復原 </a:t>
            </a:r>
            <a:r>
              <a:rPr b="0" lang="zh-TW" sz="36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Arial Narrow"/>
                <a:ea typeface="華康粗圓體"/>
              </a:rPr>
              <a:t>RECEVOR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D85-E9F6-46DE-BD7C-DBA8182BB9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六：指揮權轉移</a:t>
            </a: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請求支援</a:t>
            </a: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914400"/>
            <a:ext cx="70866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卸任指揮官必須向新任指揮官做簡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1.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事故狀況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(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現有情形、目標、優先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序、危險物、所需資源等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2.IAP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及現有狀況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3.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安全考量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4.</a:t>
            </a:r>
            <a:r>
              <a:rPr b="0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操作單位人員的指派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652-8D5F-499D-9FB4-4C87F82868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1066680"/>
            <a:ext cx="75438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人員的支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器材的支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醫療的支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消防的支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附近友廠可用資源調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BASE(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物資區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) 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的選擇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:</a:t>
            </a:r>
            <a:r>
              <a:rPr b="1" lang="zh-TW" sz="32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只能有一個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DSC00013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3429000" cy="257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FA88-97AF-4CD1-B922-180082EF787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七：整合的應變指揮系統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1143000"/>
            <a:ext cx="48765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指揮官 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Incident Command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1676520"/>
            <a:ext cx="0" cy="19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3657600"/>
            <a:ext cx="71247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4457880"/>
            <a:ext cx="1828800" cy="116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執行部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Ope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369576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4457880"/>
            <a:ext cx="1828800" cy="116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後勤部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Logistic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69576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34320" y="4457880"/>
            <a:ext cx="1981080" cy="116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計畫部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Plan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77320" y="369576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4457880"/>
            <a:ext cx="1828800" cy="116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財務部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</a:rPr>
              <a:t>Fin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369576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1981080"/>
            <a:ext cx="350532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安全官 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Safety Offic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981080"/>
            <a:ext cx="35049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新聞官 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Info. Offic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871720"/>
            <a:ext cx="36576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聯絡官 </a:t>
            </a:r>
            <a:r>
              <a:rPr b="0" lang="zh-TW" sz="2800" spc="-1" strike="noStrike">
                <a:solidFill>
                  <a:srgbClr val="eaeaea"/>
                </a:solidFill>
                <a:latin typeface="Times New Roman"/>
                <a:ea typeface="標楷體"/>
              </a:rPr>
              <a:t>Liaison Offic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20968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7080" y="2209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31240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6168-DABE-4FE8-AD5C-F5A03487EC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287280" y="228600"/>
            <a:ext cx="8569080" cy="5600520"/>
            <a:chOff x="287280" y="228600"/>
            <a:chExt cx="8569080" cy="5600520"/>
          </a:xfrm>
        </p:grpSpPr>
        <p:sp>
          <p:nvSpPr>
            <p:cNvPr id="139" name=""/>
            <p:cNvSpPr/>
            <p:nvPr/>
          </p:nvSpPr>
          <p:spPr>
            <a:xfrm>
              <a:off x="601560" y="2413440"/>
              <a:ext cx="1440" cy="16524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68280" y="2413440"/>
              <a:ext cx="1440" cy="16524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36800" y="2413440"/>
              <a:ext cx="1440" cy="16524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66680" y="2413440"/>
              <a:ext cx="1800" cy="16524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693960" y="2253960"/>
              <a:ext cx="144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608360" y="2253960"/>
              <a:ext cx="144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919920" y="2253960"/>
              <a:ext cx="144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6157800" y="2253960"/>
              <a:ext cx="144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421240" y="2253960"/>
              <a:ext cx="144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8348400" y="2253960"/>
              <a:ext cx="180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554600" y="2253960"/>
              <a:ext cx="1800" cy="329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608360" y="771120"/>
              <a:ext cx="0" cy="5760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08040" y="1009080"/>
              <a:ext cx="0" cy="185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8342280" y="1009080"/>
              <a:ext cx="0" cy="34452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608040" y="1002960"/>
              <a:ext cx="7734240" cy="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3713040" y="1002960"/>
              <a:ext cx="0" cy="34416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5421240" y="1002960"/>
              <a:ext cx="0" cy="34416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151320" y="1009080"/>
              <a:ext cx="0" cy="34452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906960" y="1002960"/>
              <a:ext cx="0" cy="34416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542000" y="1009080"/>
              <a:ext cx="0" cy="34452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1274760" y="1002600"/>
              <a:ext cx="0" cy="185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966680" y="1002600"/>
              <a:ext cx="0" cy="185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836800" y="996120"/>
              <a:ext cx="0" cy="185400"/>
            </a:xfrm>
            <a:prstGeom prst="line">
              <a:avLst/>
            </a:prstGeom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32600" y="2565360"/>
              <a:ext cx="923760" cy="32540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執行災情查報、災害搶救、治安維護、交通疏導、犯罪偵防及災民救助等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72080" y="2565360"/>
              <a:ext cx="428760" cy="3263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有關涉外之協調聯繫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83320" y="2565360"/>
              <a:ext cx="657000" cy="326376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支援災害偵檢、除毒、災情蒐集及通報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95640" y="2565360"/>
              <a:ext cx="657360" cy="32637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穩定金融股匯市及救災款項撥付等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44840" y="2565360"/>
              <a:ext cx="419040" cy="3263760"/>
            </a:xfrm>
            <a:prstGeom prst="rect">
              <a:avLst/>
            </a:prstGeom>
            <a:solidFill>
              <a:srgbClr val="ffb5b5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執行防災教育宣導等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00480" y="2565360"/>
              <a:ext cx="914400" cy="326376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加強工業設施安全防護工作，督促所屬事業採取自來水及電力破壞防止措施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11360" y="2565360"/>
              <a:ext cx="657360" cy="326376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加強航空、港口及其他交通設施安全防範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12720" y="2565360"/>
              <a:ext cx="866880" cy="32637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災害新聞發布事項，加強宣導民眾認識毒氣災害及其防救常識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25400" y="2565360"/>
              <a:ext cx="657360" cy="326376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負責緊急醫療及執行傷患救護作業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7280" y="2565360"/>
              <a:ext cx="628560" cy="326376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災害現場檢測及污染整治監控事項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46160" y="2565360"/>
              <a:ext cx="447480" cy="326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加強勞工作業環境安全檢查。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26320" y="228600"/>
              <a:ext cx="2792160" cy="528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50000"/>
                </a:gs>
                <a:gs pos="50000">
                  <a:srgbClr val="ff0000"/>
                </a:gs>
                <a:gs pos="100000">
                  <a:srgbClr val="750000"/>
                </a:gs>
              </a:gsLst>
              <a:lin ang="5400000"/>
            </a:gra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74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8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中央災害應變中心職責架構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21600" y="1127160"/>
              <a:ext cx="509400" cy="133776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內政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321680" y="1127160"/>
              <a:ext cx="509400" cy="1337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外交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80160" y="1127160"/>
              <a:ext cx="509400" cy="1337760"/>
            </a:xfrm>
            <a:prstGeom prst="rect">
              <a:avLst/>
            </a:prstGeom>
            <a:solidFill>
              <a:srgbClr val="003300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國防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24520" y="1127160"/>
              <a:ext cx="509400" cy="13377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財政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81480" y="1127160"/>
              <a:ext cx="509400" cy="1337760"/>
            </a:xfrm>
            <a:prstGeom prst="rect">
              <a:avLst/>
            </a:prstGeom>
            <a:solidFill>
              <a:srgbClr val="ffb5b5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教育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67160" y="1127160"/>
              <a:ext cx="509400" cy="1337760"/>
            </a:xfrm>
            <a:prstGeom prst="rect">
              <a:avLst/>
            </a:prstGeom>
            <a:solidFill>
              <a:srgbClr val="9900cc"/>
            </a:solidFill>
            <a:ln w="9360">
              <a:solidFill>
                <a:srgbClr val="eaeaea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eaeaea"/>
                  </a:solidFill>
                  <a:latin typeface="Times New Roman"/>
                  <a:ea typeface="標楷體"/>
                </a:rPr>
                <a:t>經濟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67160" y="1127160"/>
              <a:ext cx="509400" cy="1337760"/>
            </a:xfrm>
            <a:prstGeom prst="rect">
              <a:avLst/>
            </a:prstGeom>
            <a:solidFill>
              <a:srgbClr val="66ffcc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4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交通部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45280" y="907920"/>
              <a:ext cx="399240" cy="17492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行政院新聞局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9720" y="914760"/>
              <a:ext cx="399240" cy="174924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行政院勞委會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82000" y="914760"/>
              <a:ext cx="399240" cy="174924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行政院衛生署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29120" y="914760"/>
              <a:ext cx="399240" cy="1749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54"/>
              </a:solidFill>
              <a:miter/>
            </a:ln>
            <a:effectLst>
              <a:outerShdw dist="17819" dir="2700000" blurRad="0" rotWithShape="0">
                <a:srgbClr val="eaeae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just">
                <a:lnSpc>
                  <a:spcPct val="9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54"/>
                  </a:solidFill>
                  <a:latin typeface="Times New Roman"/>
                  <a:ea typeface="標楷體"/>
                </a:rPr>
                <a:t>行政院環保署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87A4-A145-46FA-B4BC-B9BDC645561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066680" y="914400"/>
            <a:ext cx="7848720" cy="32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災區之污染濃度再確認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人員除污處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除污後的衣物及器材需留置於除污區內 收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現場災後處理：災後復原計畫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應變人員的健康追蹤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DSC00008" descr=""/>
          <p:cNvPicPr/>
          <p:nvPr/>
        </p:nvPicPr>
        <p:blipFill>
          <a:blip r:embed="rId2"/>
          <a:stretch/>
        </p:blipFill>
        <p:spPr>
          <a:xfrm>
            <a:off x="5562720" y="350532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八：除污與災後善後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3DCB-5822-45BD-9B9C-964A72E77C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1295280"/>
            <a:ext cx="7848720" cy="32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此部份通常不演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由事故主管機關為主，協同消防、衛生、勞檢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    </a:t>
            </a: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、警察與相關專家學者進行調查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buClr>
                <a:srgbClr val="eaeaea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調查結束提出報告，供相關單位檢討改進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9000" y="0"/>
            <a:ext cx="750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aeaea"/>
                </a:solidFill>
                <a:latin typeface="Arial Narrow"/>
                <a:ea typeface="華康粗圓體"/>
              </a:rPr>
              <a:t>重點九：災因調查工作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EA3-E3CE-41AE-A74C-435D5E6B5E7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華康細圓體"/>
                <a:ea typeface="華康細圓體"/>
              </a:rPr>
              <a:t>花蓮航空站氯氣鋼瓶外洩事故</a:t>
            </a:r>
            <a:r>
              <a:rPr b="0" lang="zh-TW" sz="1800" spc="-1" strike="noStrike">
                <a:solidFill>
                  <a:srgbClr val="ff9933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08000" y="907920"/>
            <a:ext cx="8136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5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0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時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00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事故地點：花蓮縣航空站附近空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氯氣鋼瓶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0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上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0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花蓮縣航空站附件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民眾發現黃色鋼瓶一支，鋼瓶外觀黃色鏽蝕，有刺激性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嗆鼻味溢出，花蓮航空站主任電詢工研院葉德惠經理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經研判可能為氯氣。陳范倫緊急出發前往花蓮協助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理，並通知中華紙漿公司緊急應變人員攜帶偵測器及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理工具組前往協助搶救。經初步止漏後，將鋼瓶移往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華紙漿公司廠內洩氣，事故於下午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3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：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25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解除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F03-F1F6-4BB1-A37F-E141F3F25F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-1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基隆港碼頭區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-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苯基比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全真標準楷書"/>
              </a:rPr>
              <a:t>啶</a:t>
            </a: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外洩事故</a:t>
            </a:r>
            <a:r>
              <a:rPr b="1" lang="zh-TW" sz="4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836640"/>
            <a:ext cx="799308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eaeaea"/>
                </a:solidFill>
                <a:latin typeface="Tahoma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6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時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5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分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事故地點：基隆市基隆港務局貨櫃碼頭區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化學品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-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苯基比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全真標準楷書"/>
              </a:rPr>
              <a:t>啶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53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加侖鐵桶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下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6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5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吉洋船務公司通報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基隆港消防隊，該公司運輸船上一只貨櫃有洩漏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-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苯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比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全真標準楷書"/>
              </a:rPr>
              <a:t>啶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之虞。該公司貨櫃不下港，人員以大量吸液棉及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屑進行吸收圍堵。隔天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接獲通報，該貨櫃已落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且有持續洩漏的情形。毒災應變諮詢中心出動偵測小組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與應變人員趕赴現場支援，經過偵測確認濃度為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15PP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低於容許濃度後，開始進行清櫃與止漏工作。於下午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5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30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完成止漏，解除災害狀況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C50-2CC0-4ED3-9B32-45C92BC41A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-1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華康細圓體"/>
                <a:ea typeface="華康細圓體"/>
              </a:rPr>
              <a:t>仁愛游泳池疑似氯氣外洩事故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836640"/>
            <a:ext cx="77770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2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晚上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7:5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台北縣蘆洲市民族路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488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號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仁愛游泳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8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人送醫，其中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人住院觀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漂白水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次氯酸鈉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)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用途為游泳池消毒用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酸液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檸檬酸、鹽酸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)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用於調整泳池的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PH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2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晚上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:50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某化學公司進行仁愛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游泳池漂白水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(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次氯酸鈉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)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灌裝過程中，誤將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漂白水打入酸槽中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(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檸檬酸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)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，導致次氯酸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與檸檬酸起化學反應，產生低濃度的氯氣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泳客在吸入氯氣後身體不適送醫。</a:t>
            </a: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9351-50AF-4C70-9182-9C7962880A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-1080"/>
            <a:ext cx="91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ahoma"/>
                <a:ea typeface="華康細圓體"/>
              </a:rPr>
              <a:t>德豐祥苯乙烯及水膠儲槽外洩事故</a:t>
            </a:r>
            <a:r>
              <a:rPr b="0" lang="zh-TW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836640"/>
            <a:ext cx="77770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9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 下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:2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桃園縣八德市建國路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868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號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德豐祥公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苯乙烯單體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SM)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：製作水膠的原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水膠：用於製作壓克力，衣服纖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9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下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3:20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德豐祥公司委託台慶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機械公司進行廠房整地與儲槽搬運工作時，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員工不慎以堆高機將兩個化學桶槽戳破，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成苯乙烯及水膠外洩，現場瀰漫濃烈刺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位，大量洩漏液因大雨關係沿污水道漫流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F5C-ADE5-4E7D-89D4-B00623BF91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-1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Tahoma"/>
                <a:ea typeface="華康細圓體"/>
              </a:rPr>
              <a:t>埤頭鄉外環道氯乙烯槽車外洩事故</a:t>
            </a:r>
            <a:r>
              <a:rPr b="0" lang="zh-TW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907920"/>
            <a:ext cx="78487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6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 凌晨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00:3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彰化縣埤頭鄉外環道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9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號省道附近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-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輝宇公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司機死亡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(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因車禍受傷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氯乙烯單體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(VCM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6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凌晨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00:15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輝宇公司運送氯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烯的槽車發生車禍，司機受傷過重死亡，氯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乙烯槽體底部因碰撞導致些微洩漏，有白煙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eaeaea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產生，且白煙有下降的趨勢，消防人員緊急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以大量水霧冷卻槽體，輝宇公司緊急應變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員趕赴現場處理，將槽體緊急止漏後運回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                        </a:t>
            </a:r>
            <a:r>
              <a:rPr b="1" lang="zh-TW" sz="2400" spc="-1" strike="noStrike">
                <a:solidFill>
                  <a:srgbClr val="ff9933"/>
                </a:solidFill>
                <a:latin typeface="Arial Narrow"/>
                <a:ea typeface="華康細圓體"/>
              </a:rPr>
              <a:t>份華夏公司洩料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8E35-9C8E-4C65-9E31-441E94FEA0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平鎮淨水場氯氣事故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917640"/>
            <a:ext cx="8001000" cy="50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8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 上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0:2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桃園縣平鎮市湧安里南豐路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6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號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8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人送醫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氯氣：消毒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8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7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日上午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0:20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左右，淨水場淨水股陳股長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接獲敬鵬公司員工電話反應，聞到刺激性氯氣味道，陳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股長會同四位處理人員，著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A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級防護衣進入關閉氯桶開關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消防隊員亦於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10:25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抵達協助水霧噴灑，於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10:40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完成止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並開始通風排氣，此事件造成附近工業區各工廠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37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位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工送醫，另外還有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1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位消防同仁送醫。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0680-BA50-4E97-8582-BF48102F8D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輝宇公司氯乙烯槽車事故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917640"/>
            <a:ext cx="8001000" cy="50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時間：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91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年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10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07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日 上午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04:5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發生地點：苗栗縣造橋鄉台十三乙線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3.</a:t>
            </a:r>
            <a:r>
              <a:rPr b="1" lang="zh-TW" sz="2400" spc="-1" strike="noStrike">
                <a:solidFill>
                  <a:srgbClr val="ffff00"/>
                </a:solidFill>
                <a:latin typeface="Arial Narrow"/>
                <a:ea typeface="華康細圓體"/>
              </a:rPr>
              <a:t>受傷人員：無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4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化學品：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1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氯乙烯：無外洩     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2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柴油：破裂外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5.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事故簡述：輝宇通運公司運輸車輛於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AM4:55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行經台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三乙線造橋段時，因當時路段並未設置路燈，而反光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cc00"/>
                </a:solidFill>
                <a:latin typeface="Arial Narrow"/>
                <a:ea typeface="華康細圓體"/>
              </a:rPr>
              <a:t>標誌亦損毀，於事故地點突然衝出一隻小狗，駕駛因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閃避小狗而撞上不明之尖銳物（疑似貨櫃車之固定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栓），造成方向盤輪胎爆裂，而使車輛失控撞上安全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   </a:t>
            </a:r>
            <a:r>
              <a:rPr b="1" lang="zh-TW" sz="2400" spc="-1" strike="noStrike">
                <a:solidFill>
                  <a:srgbClr val="ff9900"/>
                </a:solidFill>
                <a:latin typeface="Arial Narrow"/>
                <a:ea typeface="華康細圓體"/>
              </a:rPr>
              <a:t>島槽車橫躺於路中，槽內物質並未洩漏，人員無傷亡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3890-B510-42E1-A313-0FF3E3F7A4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9T06:09:57Z</dcterms:created>
  <dc:creator>790773</dc:creator>
  <dc:description/>
  <dc:language>en-US</dc:language>
  <cp:lastModifiedBy>aaa</cp:lastModifiedBy>
  <cp:lastPrinted>2000-09-22T06:43:47Z</cp:lastPrinted>
  <dcterms:modified xsi:type="dcterms:W3CDTF">2002-05-21T03:28:23Z</dcterms:modified>
  <cp:revision>101</cp:revision>
  <dc:subject/>
  <dc:title>無投影片標題</dc:title>
</cp:coreProperties>
</file>